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2A5F-AA36-408A-A884-5E6C945E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0BD6-7AA9-4202-AC36-AB9E6EAE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BFA6-EE9A-4268-B353-066186BD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A920-41D5-4CA4-B0EC-B3B4A4C8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3D42-287E-4D42-A860-A3F5AA66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8175-514A-4696-A5DC-CF33EEB2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8B0-E604-4440-A263-22E39688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028D-1B98-48DB-A9BF-2A77EC71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8D49-0997-4326-80A4-ECEC8632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0EDD-0651-42C8-8B9C-F6622F7B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FA2A-F2AB-44A5-83FE-6D44546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6FEB-501F-44FF-88DE-EF8A24E4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0D09-F6FB-45F2-92A1-144D3CF2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DBB-B6A6-49CD-8D65-3748FD0C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2E01-3BC0-440E-870E-7940E3FC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58ED-4516-429F-A305-D47C78BC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5659-26F6-416A-ABA2-6901152C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1791-0FA0-4DF1-9E5F-18C3C1DB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D5D8-FE5E-452D-BE2C-5E0BF268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9832-4407-41E7-B894-973C0880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6CF7-E142-4CF6-B5B7-EE86B88A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673D-0E85-49D4-8713-DC246C5D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AC2B-3114-4FAF-8F54-7E24C07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5B8B-86F5-415B-B42A-E3D8058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7BE-36D1-4088-AFA8-4312E62F60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02F3-1425-4259-8B1A-19A8C35188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ВЛИЯНИЕ НАРКОТИКОВ НА ЗДОРОВЬЕ ЧЕЛОВЕК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626920" y="4292640"/>
            <a:ext cx="6265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Патракеева Татьяна 11а класс город Сыктывкар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отребление наркотиков опасно для жизни челове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ркоманы – это угроза не только для близких людей, но и для всего социального общества. Наркотики – это фальшивое представление о счастье. Наркотики разрушают семьи. Наркотики препятствуют творческому и духовному развит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Список литературы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Исследовать какой вред наносит употребление наркотиков физическому здоровью челове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что такое 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какие виды наркотиков существ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ить негативное влияние наркотиков на нервную систему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Что такое наркотики?</a:t>
            </a:r>
            <a:br>
              <a:rPr sz="20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Наркотик - это любое химическое соединение, которое воздействует на функционирование организма. Злоупотребление наркотиками - это их употребление любым неприемлемым с медицинской и социальной точек зрения образом или приемлемым, но неправильным. </a:t>
            </a: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наркотики независимо от пути введения в организм в большей или меньшей степени обязательно поврежд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24922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рвную систему (в том числе головной мозг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мунную систему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чен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рдц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4869000"/>
            <a:ext cx="844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35280" y="1125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можно разделить на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39640" y="1700280"/>
            <a:ext cx="165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332000" y="1773360"/>
            <a:ext cx="107928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843280" y="1773360"/>
            <a:ext cx="712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64000" y="1700280"/>
            <a:ext cx="43344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1844640"/>
            <a:ext cx="7192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51640" y="1700280"/>
            <a:ext cx="792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77080" y="155736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23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8000" y="350028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пресс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63640" y="3068640"/>
            <a:ext cx="17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соци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3080" y="2852640"/>
            <a:ext cx="1163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о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31417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27640" y="3213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дел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653080" y="2852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стимуля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2320" y="2421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патог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Виды наркотиков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каин              Экстази      Геро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1542960" cy="2162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1447920" cy="2199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2076120" cy="1924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6516720" y="2276640"/>
            <a:ext cx="1295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угие вещества, потребление которых легко вызывает у людей болезненное привыкание (кокаин, алкоголь, опиаты, амфетамин и др.), влияют на деятельность мозговой системы вознаграждения. Стимуляция этой системы порождает чувство удовлетворения и заставляет человека повторять те формы поведения, которые способствовали его дости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ef6"/>
                </a:solidFill>
                <a:latin typeface="Arial"/>
              </a:rPr>
              <a:t>СКАНОГРАММЫ МОЗГОВЫХ СТРУКТУР НАРКОМАН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илежащее ядро                                                                                                                      - Миндалина                                                                                                                                        - Сублентикулярная часть минда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ентральная область покры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ефронтальная к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058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Микрофотографии прилежащего ядра животных, находящихся под воздействием ненаркотических веществ: дендриты с обычным количеством шипиков – выростов, улавливающих нервные сигналы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лева и в центре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У животных, пристрастившихся к кокаину, шипиков на дендритах гораздо больше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права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96400" y="2422440"/>
            <a:ext cx="77281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19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28:26Z</dcterms:created>
  <dc:creator>User</dc:creator>
  <dc:description/>
  <dc:language>en-US</dc:language>
  <cp:lastModifiedBy>User</cp:lastModifiedBy>
  <dcterms:modified xsi:type="dcterms:W3CDTF">2009-11-10T14:37:58Z</dcterms:modified>
  <cp:revision>7</cp:revision>
  <dc:subject/>
  <dc:title>ВЛИЯНИЕ НАРКОТИКОВ НА ЗДОРОВЬЕ ЧЕЛОВЕКА</dc:title>
</cp:coreProperties>
</file>